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FAB-656C-4E31-9312-FB2522B1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23E-C4E9-4F2C-85AB-61E679C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02AA2-D910-455A-BC3C-E8BB68A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5041-F1B3-4B16-9BED-3EB7AB9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8F714-E24B-4853-AF98-8107265F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2D687-2F6B-4BED-8794-CDF97871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2EC56-31A1-4224-A9FE-A76868F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DDC90-AC7C-4B2A-B38B-64F65AA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2917-C3B4-4F10-A400-8680930A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39A2C-119F-4701-8497-59248E52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A92E4-C850-4395-9D63-1B468C6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2AD-AC1E-42CE-8D18-D24E9FB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27C-5B7C-4DA3-948B-80E91051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389-5862-4BBA-9287-63C6C750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59B5-EDA6-41AD-B6C0-9BDE83E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467-E170-4BCE-BB61-69DCD421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3559-3B41-457D-B64D-C48CD7C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F827-4571-444E-916C-35A5598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33B8-0839-424B-9770-3A2704E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987-5F01-46EC-9514-C3AFC9F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6B-7175-4FA4-B62A-AA17D6D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D777-4341-423B-A637-09DA087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3BC8-42E2-4524-BE8C-A05BE3A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16AD-C215-47C2-8FCE-E1F8AC5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DC1-A990-47DB-9FD6-AD586F9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F014-6AEE-411A-802B-812BB9CC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5E3B-89BF-4299-80CF-8E59995B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8CC7-1B2F-4C16-8661-AA2F479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C895-FB3F-46B9-AA8A-38A8144B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1EE4-0D3E-4B21-A852-5221D7A7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A343-2D22-43D1-891E-7214344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AE4-2595-4173-846A-A1FE2C2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01A3-2BE6-4E52-9001-1DBD804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B67E-B40A-402F-81EB-FEE8C8E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F29E-B890-43F5-BF68-2172800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62C8-8F69-4896-AA93-3E78878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91E8-86C1-4B59-A5E4-6FA62FBF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A957-AD11-4242-830D-9157CF4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1B79-1233-444A-BFA0-52D31A41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326B-A4C1-480E-A8B6-6461550A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F6FF-DE68-4356-9FC1-41D23647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4212-CAB7-485D-AC89-4E5D73A8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D4B-434A-4E15-B437-D8F59F4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5349-4F18-4137-93BD-C380260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8C58-4D4D-471A-A32D-79671497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5FE7-BCDB-4F4B-9219-AFDE554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EFA2-D775-4E85-A586-5048369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7690-3A02-40EE-9E71-35EB61C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4ADA-4205-4395-89D5-38DCDB0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5F5F-D581-45D6-B22F-B7C2EB0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12AA-870C-4431-95E8-934BE728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5870-2345-4A97-98F8-9F3ED8E1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DD4A-A2DD-453A-BC28-D895BFD6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E37-D0BC-46E1-89D3-6AE032D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F74A-7B32-4177-8D2F-20FE589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6DC0-C81C-4C64-84A8-4591775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B5BA-5B20-4F4B-8EED-FDFEDD7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2045-0F52-41A6-9A1F-AB3DA09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C049-3452-4D42-870F-31C14F6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BCF3-DB99-4315-932A-B729F5A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A2CD-A9B4-4C0A-9858-4242E2C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A69A-1890-4688-BD92-E9CD5AD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74180-68C4-41DA-842B-F346EC0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F209-4D62-4AC3-90D5-4DAB6B87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B70-500C-427F-AE61-6D72050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FB2A-540F-47AD-9E80-7184E54C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8FD1-8D85-43B0-9B27-BEC81AEF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079C-DED6-44CF-AF86-12C36B54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001C-BFB0-4DE9-A254-1CD7973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75ED-3F8E-4B9B-89F6-6E505D1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4FA5-811D-49FC-887C-BB94E79B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A9C6-4CC2-43CF-877A-566D85E4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DC51-C99F-4B91-84E2-972D6CE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5FD0-6B5C-4B43-8FBA-F5AD26B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DADB-657C-4FDB-BAFE-6533C79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1D0-EA95-4A5A-9A04-49FD00D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05577-2042-4036-BC55-1B2E1544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820C-AAEB-4ABF-9D39-2F02965F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D3B1-75B5-4826-B7DE-C4EA994E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3AFF-E36C-4650-B81C-D65D4B62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89755-68F2-4C48-A405-83C792D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13474-2A7D-4AA0-8B52-FCF7449E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992C-0BED-4902-831E-EF92E156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E72B-B1BB-4BDA-B80E-EDA6E48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3437B-6ECA-461F-A27B-81CB49C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4727-7A63-42CD-B302-76C85D0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6F8-C0C4-46CA-8C82-7B3CED3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B0C5-6559-4451-B647-A8AFCDA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F61B-048A-4563-A0C8-0C24303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CD25A-122E-4A0D-8694-7B6573FF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5700-0585-498F-AF7E-6D24780C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A868-30A3-4AAE-AF72-B46A2A87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D6C2-FF41-4C34-9A97-DD69E0A8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6782-118D-422B-9B8D-EC0CE98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7ABA-2762-40B6-B9AA-CEA1424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12C9-C44E-4C0D-B3E8-FC62424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C2247-3B95-4ADC-8DEF-43BB149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456-5589-46B5-A4E4-81BC6DB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137E-F00F-4999-9A9C-BDD6787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E203-1D05-4690-BF81-F15D0976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25126-E3DD-477C-88D0-242721F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3EF1-6992-45CA-A6E1-43692179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03AB-46AF-4CBF-90E9-65E6E7A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8718-0762-489E-9867-6727512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76F2-03BF-4836-852A-B7943327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41CA2-2486-4379-9D49-FD9897D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FFF90-6B35-4E94-B8AE-6062C138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B46E6-9DC9-400D-9BC3-743851D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867-6009-48F6-A277-7E6669A7712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5BD-8CDF-48B2-B9EC-14C661BA453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D9A-B1CA-4964-97E0-977FFCAE72A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7A62-7768-44F3-AAFF-7C3753564AD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BA3-4550-411A-83A8-EDFBF148996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2CE-6E62-4429-9A83-048B9221957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9BB7-2FB0-4DF2-B4B7-AB40768D3C3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DDBA-7F62-4B5D-8E99-513693F1CC2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756-C77F-471A-9432-0EC006E1310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content/begin/tour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at is a Trait?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enetic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ease open the “Trait Wkst” on the wiki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ve the worksheet to notability so you can fill it ou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Earlob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3520" y="5866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Some people have earlobes that are attached directly to the face (B).  Others have lobes that hang more freely (A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nected or detached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2" name="Picture 2" descr="http://www.windows2universe.org/earth/Life/images/earlobes.jpg"/>
          <p:cNvPicPr/>
          <p:nvPr/>
        </p:nvPicPr>
        <p:blipFill>
          <a:blip r:embed="rId1"/>
          <a:stretch/>
        </p:blipFill>
        <p:spPr>
          <a:xfrm>
            <a:off x="3124080" y="2209680"/>
            <a:ext cx="2286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Freck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52280" y="56383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aramond"/>
              </a:rPr>
              <a:t>Freckles vary in severity, but some people have them and others do no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132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eckles or no freckl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6" name="Picture 2" descr="http://llerrah.com/images/freckles.jpg"/>
          <p:cNvPicPr/>
          <p:nvPr/>
        </p:nvPicPr>
        <p:blipFill>
          <a:blip r:embed="rId1"/>
          <a:stretch/>
        </p:blipFill>
        <p:spPr>
          <a:xfrm>
            <a:off x="2190600" y="19321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aramond"/>
              </a:rPr>
              <a:t>Check to make sure you have each of the following filled out: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57200" y="1981080"/>
          <a:ext cx="8229600" cy="45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b60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 pheno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b60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umb dom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ngue ro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e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itchhiker</a:t>
                      </a:r>
                      <a:r>
                        <a:rPr b="0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 thu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inger sp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arlob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reck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Find your trait twi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sing your t-chart, walk around the room and try to find someone with the exact same list of traits as you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you find someone, sit down next to each oth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Reflec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re you able to find a partner?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aramond"/>
              </a:rPr>
              <a:t>If so: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other traits do you have in common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are some traits that you do not share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y are you not exactly the same as this person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aramond"/>
              </a:rPr>
              <a:t>If not: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was the closest you got to finding a partner (how many traits did you share out of 8)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y was it difficult to find someone with the exact same traits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ere would you look to find someone who shared all of these traits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Eye Colo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Garamond"/>
              </a:rPr>
              <a:t>Eye color</a:t>
            </a: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 is an inherited trait influenced by more than one </a:t>
            </a:r>
            <a:r>
              <a:rPr b="0" i="1" lang="en-US" sz="2200" spc="-1" strike="noStrike">
                <a:solidFill>
                  <a:srgbClr val="595959"/>
                </a:solidFill>
                <a:latin typeface="Garamond"/>
              </a:rPr>
              <a:t>gene</a:t>
            </a: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1295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color are your ey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Brown, Blue, Green, Hazel, etc.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1743120" cy="1352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2"/>
          <a:stretch/>
        </p:blipFill>
        <p:spPr>
          <a:xfrm>
            <a:off x="6934320" y="2895480"/>
            <a:ext cx="1771560" cy="1333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3"/>
          <a:stretch/>
        </p:blipFill>
        <p:spPr>
          <a:xfrm>
            <a:off x="2895480" y="2895480"/>
            <a:ext cx="3353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b0f0"/>
                </a:solidFill>
                <a:uFillTx/>
                <a:latin typeface="Calisto MT"/>
                <a:hlinkClick r:id="rId1"/>
              </a:rPr>
              <a:t>Genetics Tour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aits are determined by our gene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Genes are determined by our DNA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NA is an instruction manual for our bodies, a gene is an individual instruction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DNA is contained in our chromosome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romosomes are the package that contains the instruction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4475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A genetically-determined characteristic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5" name="Picture 7" descr="http://img.poptower.com/pic-35140/stefanie-scott.jpg?d=600"/>
          <p:cNvPicPr/>
          <p:nvPr/>
        </p:nvPicPr>
        <p:blipFill>
          <a:blip r:embed="rId1"/>
          <a:stretch/>
        </p:blipFill>
        <p:spPr>
          <a:xfrm>
            <a:off x="182880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1981080" y="61722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anything about you that is determined by your DNA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360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hromosomes are contained in our cell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57240" y="-5842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1" name="Picture 7" descr="https://encrypted-tbn1.google.com/images?q=tbn:ANd9GcQDp_SetUD7K9IioXZY8teMpHLtBJnWgNsnIwHMN2_65xkTDeJhzQ"/>
          <p:cNvPicPr/>
          <p:nvPr/>
        </p:nvPicPr>
        <p:blipFill>
          <a:blip r:embed="rId1"/>
          <a:stretch/>
        </p:blipFill>
        <p:spPr>
          <a:xfrm>
            <a:off x="380880" y="1219320"/>
            <a:ext cx="8520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Karyotype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  <a:ea typeface="ＭＳ 明朝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lueprint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  <a:ea typeface="ＭＳ 明朝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of our chromosom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Female Karyotyp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24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Male Karyotyp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rcRect l="0" t="10010" r="0" b="0"/>
          <a:stretch/>
        </p:blipFill>
        <p:spPr>
          <a:xfrm>
            <a:off x="1752480" y="1447920"/>
            <a:ext cx="556272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If there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 a 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”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, it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 a GU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XX = Fema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XY = Ma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(Boys are weird!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aryotype with Down</a:t>
            </a:r>
            <a:r>
              <a:rPr b="0" lang="ja-JP" sz="36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 Syndro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Trisomy 21)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rcRect l="0" t="23604" r="0" b="23604"/>
          <a:stretch/>
        </p:blipFill>
        <p:spPr>
          <a:xfrm>
            <a:off x="739800" y="2770200"/>
            <a:ext cx="7662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Diagram 1" descr=""/>
          <p:cNvPicPr/>
          <p:nvPr/>
        </p:nvPicPr>
        <p:blipFill>
          <a:blip r:embed="rId1"/>
          <a:stretch/>
        </p:blipFill>
        <p:spPr>
          <a:xfrm>
            <a:off x="517680" y="317520"/>
            <a:ext cx="80960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an you think of more?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ere are some examples…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Dimp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676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imples or no dimples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895480" cy="2025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83808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entations in your cheek when you smile are called dimples, and these are affected by your gen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humb Dominanc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Right-thumbed or left thumbed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2379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666800" y="498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ft-thumbed                          Right-thumb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57200" y="55627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en you clasp your hands together and interlock your fingers, genetics decide which position is most natural for you.  Look for the thumb that is on top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ongue rolling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aramond"/>
              </a:rPr>
              <a:t>Tongue rolling is a genetic trait certain people have that allows them to curl their tongue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roll tongue or can</a:t>
            </a:r>
            <a:r>
              <a:rPr b="0" lang="ja-JP" sz="32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 roll tongue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oe or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48002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aramond"/>
              </a:rPr>
              <a:t>Some people have toes that decrease (get smaller) in size from the big toe to the small one, while other people have a second toe that is longer than their big toe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743200" cy="224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2868840" cy="22352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g toe or second toe?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is longer?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Hitchhiker</a:t>
            </a:r>
            <a:r>
              <a:rPr b="0" lang="ja-JP" sz="46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s thumb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1"/>
          <a:stretch/>
        </p:blipFill>
        <p:spPr>
          <a:xfrm>
            <a:off x="1898640" y="1976400"/>
            <a:ext cx="2224080" cy="3143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"/>
          <p:cNvPicPr/>
          <p:nvPr/>
        </p:nvPicPr>
        <p:blipFill>
          <a:blip r:embed="rId2"/>
          <a:stretch/>
        </p:blipFill>
        <p:spPr>
          <a:xfrm>
            <a:off x="5105520" y="1954080"/>
            <a:ext cx="2367000" cy="32004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1066680" y="54864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se two images show the difference between a regular thumb and a "Hitchhiker</a:t>
            </a:r>
            <a:r>
              <a:rPr b="1" lang="ja-JP" sz="1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 thumb,</a:t>
            </a:r>
            <a:r>
              <a:rPr b="1" lang="ja-JP" sz="18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which, because of a genetic difference, can bend further backwards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2158920" y="47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tchhiker</a:t>
            </a:r>
            <a:r>
              <a:rPr b="0" lang="ja-JP" sz="1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 Thum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5638680" y="4768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gular Thum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133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tchhiker</a:t>
            </a:r>
            <a:r>
              <a:rPr b="0" lang="ja-JP" sz="2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 thumb or regular thumb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Finger sprea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040" y="48765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aramond"/>
              </a:rPr>
              <a:t>Live long and prosper! Some people can easily make this sign, made famous by Spock from Star Trek.  Other people find it very difficul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0" t="0" r="50019" b="0"/>
          <a:stretch/>
        </p:blipFill>
        <p:spPr>
          <a:xfrm>
            <a:off x="3295800" y="2209680"/>
            <a:ext cx="2323800" cy="24019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spread or can</a:t>
            </a:r>
            <a:r>
              <a:rPr b="0" lang="ja-JP" sz="32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 spread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0:36Z</dcterms:created>
  <dc:creator>LLEET</dc:creator>
  <dc:description/>
  <dc:language>en-US</dc:language>
  <cp:lastModifiedBy>User</cp:lastModifiedBy>
  <cp:lastPrinted>2011-12-05T18:55:40Z</cp:lastPrinted>
  <dcterms:modified xsi:type="dcterms:W3CDTF">2014-01-13T23:00:51Z</dcterms:modified>
  <cp:revision>30</cp:revision>
  <dc:subject/>
  <dc:title>Slide 1</dc:title>
</cp:coreProperties>
</file>